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4953E4-ED84-4BDB-999C-E20721EF1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47680" indent="-247680">
              <a:spcBef>
                <a:spcPts val="451"/>
              </a:spcBef>
              <a:buClr>
                <a:srgbClr val="000000"/>
              </a:buClr>
              <a:buFont typeface="Arial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bolic and biochemical, (ii) transcription, regulation and protein synthesis, and (iii) signal transduction.  Metabolic pathways enumerate the chemical reactions for biological functions such as energy metabolism and fatty acid synthesi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, regulation and protein synthesis pathways enumerate the processes of converting genetic information into gene products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7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al transduction pathways outline the cellular response to an environmental or regulatory stimulus via a cascade of post-translational modifications such as phosphory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We use BioPAX level 2 and level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Reactome and Biocy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Supposed to be backward compat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</a:rPr>
              <a:t>PSI- Proteomics Standards Initiative Molecular Inte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56DB-3573-4DEC-900F-DB587280E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F213-DF33-4A2E-B1E4-7B2374F2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4E4E-7864-4924-B677-B9E53F29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D417-F529-4C08-B5A3-062D6091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6FAC-B2A3-4771-96D6-1A376D6A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92B71-49AD-4727-BCA9-AAF71C7D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6BB7C-77AB-471D-91DC-D62D6873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A9FFF-A063-40F7-BE33-831DF729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2FE6-6038-4765-B131-8935F2A5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8F90-7FC8-4A87-9297-F869819E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E9F53-3CC2-4643-AD1A-ADF83442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609F-5D5A-403F-943F-E493A649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3B56-108D-4CC4-8089-6BCBF88A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3417-3313-4B09-B04F-0CC58539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45AD6-A71E-4DA7-9AB9-45876D10C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742C-BCDC-4488-8A81-A3030D57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0AB1-3D46-4F50-A20B-B5B3E272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9310-5280-45AD-9541-B37C9B11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3EDD-71C1-4DC8-B170-E0BD838E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1412-D491-41F7-BAE0-201D7E7A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712E-397B-44B7-93D1-62230BE4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2C2C-14F6-437C-9E4D-D2D25444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E55D-1FD1-48D4-93E3-7E0459A1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10F8-87F1-4DFE-A789-5890082C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A217-73C3-4EDB-8FAB-A7AFA28AA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862760" y="63360"/>
            <a:ext cx="1094040" cy="1197000"/>
            <a:chOff x="7862760" y="63360"/>
            <a:chExt cx="1094040" cy="1197000"/>
          </a:xfrm>
        </p:grpSpPr>
        <p:sp>
          <p:nvSpPr>
            <p:cNvPr id="7" name=""/>
            <p:cNvSpPr/>
            <p:nvPr/>
          </p:nvSpPr>
          <p:spPr>
            <a:xfrm>
              <a:off x="7862760" y="117360"/>
              <a:ext cx="1094040" cy="1143000"/>
            </a:xfrm>
            <a:prstGeom prst="can">
              <a:avLst>
                <a:gd name="adj" fmla="val 25000"/>
              </a:avLst>
            </a:prstGeom>
            <a:blipFill rotWithShape="0">
              <a:blip r:embed="rId2">
                <a:alphaModFix amt="80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080200" y="633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PK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" name=""/>
            <p:cNvGrpSpPr/>
            <p:nvPr/>
          </p:nvGrpSpPr>
          <p:grpSpPr>
            <a:xfrm>
              <a:off x="7924680" y="457200"/>
              <a:ext cx="952560" cy="800280"/>
              <a:chOff x="7924680" y="457200"/>
              <a:chExt cx="952560" cy="800280"/>
            </a:xfrm>
          </p:grpSpPr>
          <p:sp>
            <p:nvSpPr>
              <p:cNvPr id="10" name=""/>
              <p:cNvSpPr/>
              <p:nvPr/>
            </p:nvSpPr>
            <p:spPr>
              <a:xfrm flipV="1">
                <a:off x="8153280" y="685080"/>
                <a:ext cx="533520" cy="530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924680" y="457200"/>
                <a:ext cx="343080" cy="343080"/>
              </a:xfrm>
              <a:prstGeom prst="ellipse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229600" y="914400"/>
                <a:ext cx="343080" cy="34308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229600" y="91440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534520" y="457200"/>
                <a:ext cx="342720" cy="3430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534520" y="457200"/>
                <a:ext cx="304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924680" y="45720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" name=""/>
          <p:cNvSpPr/>
          <p:nvPr/>
        </p:nvSpPr>
        <p:spPr>
          <a:xfrm>
            <a:off x="609480" y="1295280"/>
            <a:ext cx="5105520" cy="0"/>
          </a:xfrm>
          <a:prstGeom prst="line">
            <a:avLst/>
          </a:prstGeom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B045-CA1A-4929-9582-6951BADA4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96080" y="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862760" y="63360"/>
            <a:ext cx="1094040" cy="1197000"/>
            <a:chOff x="7862760" y="63360"/>
            <a:chExt cx="1094040" cy="1197000"/>
          </a:xfrm>
        </p:grpSpPr>
        <p:sp>
          <p:nvSpPr>
            <p:cNvPr id="60" name=""/>
            <p:cNvSpPr/>
            <p:nvPr/>
          </p:nvSpPr>
          <p:spPr>
            <a:xfrm>
              <a:off x="7862760" y="117360"/>
              <a:ext cx="1094040" cy="1143000"/>
            </a:xfrm>
            <a:prstGeom prst="can">
              <a:avLst>
                <a:gd name="adj" fmla="val 25000"/>
              </a:avLst>
            </a:prstGeom>
            <a:blipFill rotWithShape="0">
              <a:blip r:embed="rId2">
                <a:alphaModFix amt="80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080200" y="6336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PK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7924680" y="457200"/>
              <a:ext cx="952560" cy="800280"/>
              <a:chOff x="7924680" y="457200"/>
              <a:chExt cx="952560" cy="800280"/>
            </a:xfrm>
          </p:grpSpPr>
          <p:sp>
            <p:nvSpPr>
              <p:cNvPr id="63" name=""/>
              <p:cNvSpPr/>
              <p:nvPr/>
            </p:nvSpPr>
            <p:spPr>
              <a:xfrm flipV="1">
                <a:off x="8153280" y="685080"/>
                <a:ext cx="533520" cy="530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924680" y="457200"/>
                <a:ext cx="343080" cy="343080"/>
              </a:xfrm>
              <a:prstGeom prst="ellipse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229600" y="914400"/>
                <a:ext cx="343080" cy="34308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229600" y="91440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534520" y="457200"/>
                <a:ext cx="342720" cy="3430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534520" y="457200"/>
                <a:ext cx="3045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924680" y="457200"/>
                <a:ext cx="3049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3333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kb.stanford.edu/biopax#datasourcename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pkb.stanford.edu/" TargetMode="External"/><Relationship Id="rId2" Type="http://schemas.openxmlformats.org/officeDocument/2006/relationships/hyperlink" Target="mailto:pathwaykb@lists.stanford.edu" TargetMode="Externa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athguide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way Knowledge Base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ublic Repository for Searching Biological Pathways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120" y="5181120"/>
            <a:ext cx="7543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Nikesh Kotecha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, Kyle Bruck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, William Lu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 and Nigam Shah</a:t>
            </a:r>
            <a:r>
              <a:rPr b="0" i="1" lang="en-US" sz="2000" spc="-1" strike="noStrike" baseline="30000">
                <a:solidFill>
                  <a:srgbClr val="33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partment of Biomedical Informatics, Stanford University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mail: pathwaykb@lists.stanford.edu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352680" y="2514600"/>
            <a:ext cx="2133720" cy="2133720"/>
            <a:chOff x="3352680" y="2514600"/>
            <a:chExt cx="2133720" cy="2133720"/>
          </a:xfrm>
        </p:grpSpPr>
        <p:sp>
          <p:nvSpPr>
            <p:cNvPr id="117" name=""/>
            <p:cNvSpPr/>
            <p:nvPr/>
          </p:nvSpPr>
          <p:spPr>
            <a:xfrm>
              <a:off x="3352680" y="2514600"/>
              <a:ext cx="2133720" cy="2133720"/>
            </a:xfrm>
            <a:prstGeom prst="can">
              <a:avLst>
                <a:gd name="adj" fmla="val 25000"/>
              </a:avLst>
            </a:prstGeom>
            <a:blipFill rotWithShape="0">
              <a:blip r:embed="rId1">
                <a:alphaModFix amt="80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3702600" y="3193560"/>
              <a:ext cx="1456920" cy="1272600"/>
              <a:chOff x="3702600" y="3193560"/>
              <a:chExt cx="1456920" cy="1272600"/>
            </a:xfrm>
          </p:grpSpPr>
          <p:sp>
            <p:nvSpPr>
              <p:cNvPr id="119" name=""/>
              <p:cNvSpPr/>
              <p:nvPr/>
            </p:nvSpPr>
            <p:spPr>
              <a:xfrm flipV="1">
                <a:off x="4019040" y="3495960"/>
                <a:ext cx="823680" cy="66636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3702600" y="3193560"/>
                <a:ext cx="570240" cy="545400"/>
                <a:chOff x="3702600" y="3193560"/>
                <a:chExt cx="570240" cy="54540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702600" y="3193560"/>
                  <a:ext cx="570240" cy="545400"/>
                </a:xfrm>
                <a:prstGeom prst="ellipse">
                  <a:avLst/>
                </a:prstGeom>
                <a:solidFill>
                  <a:srgbClr val="99cc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828960" y="3314880"/>
                  <a:ext cx="316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589280" y="3193560"/>
                <a:ext cx="570240" cy="545400"/>
                <a:chOff x="4589280" y="3193560"/>
                <a:chExt cx="570240" cy="5454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589280" y="3193560"/>
                  <a:ext cx="570240" cy="545400"/>
                </a:xfrm>
                <a:prstGeom prst="ellipse">
                  <a:avLst/>
                </a:prstGeom>
                <a:solidFill>
                  <a:srgbClr val="ffff99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715640" y="3314880"/>
                  <a:ext cx="316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145760" y="3920760"/>
                <a:ext cx="570240" cy="545400"/>
                <a:chOff x="4145760" y="3920760"/>
                <a:chExt cx="570240" cy="5454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145760" y="3920760"/>
                  <a:ext cx="570240" cy="545400"/>
                </a:xfrm>
                <a:prstGeom prst="ellipse">
                  <a:avLst/>
                </a:prstGeom>
                <a:solidFill>
                  <a:srgbClr val="ccffcc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272480" y="4042080"/>
                  <a:ext cx="3164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9" name=""/>
          <p:cNvSpPr/>
          <p:nvPr/>
        </p:nvSpPr>
        <p:spPr>
          <a:xfrm>
            <a:off x="4267080" y="4952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23720" y="47242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ttp://pkb.stanford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ize and navigate pathway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-4199" t="65548" r="0" b="0"/>
          <a:stretch/>
        </p:blipFill>
        <p:spPr>
          <a:xfrm>
            <a:off x="-304920" y="1832040"/>
            <a:ext cx="9144000" cy="42638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6476760" y="647712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ttp://pkb.stanford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 queries enabled via advanced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0" t="17581" r="13283" b="16012"/>
          <a:stretch/>
        </p:blipFill>
        <p:spPr>
          <a:xfrm>
            <a:off x="380880" y="1676520"/>
            <a:ext cx="8458200" cy="51814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476760" y="647712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ttp://pkb.stanford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Under the Hoo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895480" y="1219320"/>
            <a:ext cx="4419720" cy="2590560"/>
            <a:chOff x="2895480" y="1219320"/>
            <a:chExt cx="4419720" cy="2590560"/>
          </a:xfrm>
        </p:grpSpPr>
        <p:sp>
          <p:nvSpPr>
            <p:cNvPr id="167" name=""/>
            <p:cNvSpPr/>
            <p:nvPr/>
          </p:nvSpPr>
          <p:spPr>
            <a:xfrm>
              <a:off x="3733920" y="1219320"/>
              <a:ext cx="3581280" cy="1904760"/>
            </a:xfrm>
            <a:prstGeom prst="cloudCallout">
              <a:avLst>
                <a:gd name="adj1" fmla="val -62898"/>
                <a:gd name="adj2" fmla="val 78000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95480" y="2971800"/>
              <a:ext cx="152424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67080" y="1600200"/>
            <a:ext cx="25909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way Viewer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ika, Cytoscape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867280" y="3276720"/>
            <a:ext cx="2971800" cy="3682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Client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5943600"/>
            <a:ext cx="2971800" cy="368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F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5943600" y="3962520"/>
            <a:ext cx="1093680" cy="1197000"/>
            <a:chOff x="5943600" y="3962520"/>
            <a:chExt cx="1093680" cy="1197000"/>
          </a:xfrm>
        </p:grpSpPr>
        <p:sp>
          <p:nvSpPr>
            <p:cNvPr id="174" name=""/>
            <p:cNvSpPr/>
            <p:nvPr/>
          </p:nvSpPr>
          <p:spPr>
            <a:xfrm>
              <a:off x="5943600" y="4016520"/>
              <a:ext cx="1093680" cy="1143000"/>
            </a:xfrm>
            <a:prstGeom prst="can">
              <a:avLst>
                <a:gd name="adj" fmla="val 25000"/>
              </a:avLst>
            </a:prstGeom>
            <a:blipFill rotWithShape="0">
              <a:blip r:embed="rId1">
                <a:alphaModFix amt="80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6104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PK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6005520" y="4356360"/>
              <a:ext cx="951840" cy="799560"/>
              <a:chOff x="6005520" y="4356360"/>
              <a:chExt cx="951840" cy="799560"/>
            </a:xfrm>
          </p:grpSpPr>
          <p:sp>
            <p:nvSpPr>
              <p:cNvPr id="177" name=""/>
              <p:cNvSpPr/>
              <p:nvPr/>
            </p:nvSpPr>
            <p:spPr>
              <a:xfrm flipV="1">
                <a:off x="6233760" y="4584600"/>
                <a:ext cx="533160" cy="52992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005520" y="4356360"/>
                <a:ext cx="342720" cy="342720"/>
              </a:xfrm>
              <a:prstGeom prst="ellipse">
                <a:avLst/>
              </a:prstGeom>
              <a:solidFill>
                <a:srgbClr val="99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310080" y="4813200"/>
                <a:ext cx="342720" cy="342720"/>
              </a:xfrm>
              <a:prstGeom prst="ellipse">
                <a:avLst/>
              </a:prstGeom>
              <a:solidFill>
                <a:srgbClr val="cc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310080" y="4813200"/>
                <a:ext cx="304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15000" y="4356360"/>
                <a:ext cx="342360" cy="34272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615000" y="4356360"/>
                <a:ext cx="304200" cy="22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005520" y="4356360"/>
                <a:ext cx="3045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304920" y="4648320"/>
            <a:ext cx="1599840" cy="1752480"/>
            <a:chOff x="304920" y="4648320"/>
            <a:chExt cx="1599840" cy="1752480"/>
          </a:xfrm>
        </p:grpSpPr>
        <p:sp>
          <p:nvSpPr>
            <p:cNvPr id="185" name=""/>
            <p:cNvSpPr/>
            <p:nvPr/>
          </p:nvSpPr>
          <p:spPr>
            <a:xfrm>
              <a:off x="304920" y="4952880"/>
              <a:ext cx="1295280" cy="144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0880" y="4876920"/>
              <a:ext cx="1295640" cy="144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200" y="4800600"/>
              <a:ext cx="1295280" cy="144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609480" y="4648320"/>
              <a:ext cx="1295280" cy="1447560"/>
              <a:chOff x="609480" y="4648320"/>
              <a:chExt cx="1295280" cy="1447560"/>
            </a:xfrm>
          </p:grpSpPr>
          <p:sp>
            <p:nvSpPr>
              <p:cNvPr id="189" name=""/>
              <p:cNvSpPr/>
              <p:nvPr/>
            </p:nvSpPr>
            <p:spPr>
              <a:xfrm>
                <a:off x="609480" y="4648320"/>
                <a:ext cx="1295280" cy="14475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85440" y="4724280"/>
                <a:ext cx="114300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ioPA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il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actom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ioCy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"/>
          <p:cNvSpPr/>
          <p:nvPr/>
        </p:nvSpPr>
        <p:spPr>
          <a:xfrm>
            <a:off x="3276720" y="5257800"/>
            <a:ext cx="1218960" cy="10598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P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81080" y="57150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5715000"/>
            <a:ext cx="129528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895480"/>
            <a:ext cx="2210040" cy="11091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rch Pathw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ioPAX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2895480" y="2438280"/>
            <a:ext cx="838440" cy="4572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733920"/>
            <a:ext cx="2819520" cy="7617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76720" y="4191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Q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666880" y="21337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505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1520" y="63244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"/>
          <p:cNvCxnSpPr/>
          <p:nvPr/>
        </p:nvCxnSpPr>
        <p:spPr>
          <a:xfrm>
            <a:off x="7162560" y="4648320"/>
            <a:ext cx="1051560" cy="1187640"/>
          </a:xfrm>
          <a:prstGeom prst="bentConnector2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2895480" y="342900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Query: List all reactions in P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0880" y="1447920"/>
            <a:ext cx="85345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lect distinct t,x,y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elect 'HUMAN' as t,x,y  from TABLE(SDO_RDF_MATCH('(?y rdf:type :biochemicalReaction) (?y :NAME ?x)', SDO_RDF_Models('human'), null,SDO_RDF_Aliases(SDO_RDF_Alias('','http://www.biopax.org/release/biopax-level2.owl#')),null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IO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elect 'YEAST' as t,x,y  from TABLE(SDO_RDF_MATCH('(?y rdf:type :biochemicalReaction) (?y :NAME ?x)', SDO_RDF_Models('yeast'), null,SDO_RDF_Aliases(SDO_RDF_Alias('','http://www.biopax.org/release/biopax-level2.owl#')),null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ION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select 'ECOLI' as t,x,y  from TABLE(SDO_RDF_MATCH('(?y rdf:type :biochemicalReaction) (?y :NAME ?x)', SDO_RDF_Models('ecoli'), null,SDO_RDF_Aliases(SDO_RDF_Alias('','http://www.biopax.org/release/biopax-level2.owl#')),null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)ORDER BY 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1752480"/>
            <a:ext cx="7772400" cy="445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ch species has its own RDF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Query across species via UNION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etermine data source via UR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http://pkb.stanford.edu/biopax#biocyc_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iochemicalReaction124086301HUMANRecruitment of elongation factors to form HIV-1 elongation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http://pkb.stanford.edu/biopax#reactome_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cruitment_of_elongation_factors_to_form_HIV_1_elongation_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 new species and data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d new spec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reate TABLE for storing rdf data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reate an RDF_MODEL for that speci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sert data as N-Tripl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d new data sourc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btain BioPAX pathway data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vert BioPAX OWL files into the triples format using JENA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pdate all unique identifiers to have a custom URI*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kb.stanford.edu/biopax#datasourcename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Upgrade biopax identifiers from level 1 to level 2*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sert data into tabl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KB Query Perform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04920" y="1981080"/>
          <a:ext cx="6781680" cy="1506600"/>
        </p:xfrm>
        <a:graphic>
          <a:graphicData uri="http://schemas.openxmlformats.org/drawingml/2006/table">
            <a:tbl>
              <a:tblPr/>
              <a:tblGrid>
                <a:gridCol w="1930320"/>
                <a:gridCol w="1272960"/>
                <a:gridCol w="1151280"/>
                <a:gridCol w="1153800"/>
                <a:gridCol w="1273320"/>
              </a:tblGrid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. co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of path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of re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 of trip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51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7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88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131,4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"/>
          <p:cNvSpPr/>
          <p:nvPr/>
        </p:nvSpPr>
        <p:spPr>
          <a:xfrm>
            <a:off x="0" y="15238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ummary of data available in PK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38242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xample query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86920" y="6375240"/>
            <a:ext cx="627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Queries run on a Dell PowerEdge 2800 w/ 4 GB RAM and Oracle 10.2.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80880" y="4270320"/>
          <a:ext cx="7391520" cy="1825560"/>
        </p:xfrm>
        <a:graphic>
          <a:graphicData uri="http://schemas.openxmlformats.org/drawingml/2006/table">
            <a:tbl>
              <a:tblPr/>
              <a:tblGrid>
                <a:gridCol w="5827680"/>
                <a:gridCol w="156384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Que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ime (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earch for pathway titles containing phospholip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nd all proteins with bcl1 in their name or synony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nd all pathways with protein bcl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ist all entities to the left or right of hydroxyanthrani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ain queries are easier with relational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828800"/>
            <a:ext cx="16002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thway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1828800"/>
            <a:ext cx="16002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athway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43200" y="3048120"/>
            <a:ext cx="16002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action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60680" y="2170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71600" y="4343400"/>
            <a:ext cx="16002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tein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9480" y="3048120"/>
            <a:ext cx="16002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action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5268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590920" y="373392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37339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2514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724280" y="2209680"/>
          <a:ext cx="4267440" cy="1095480"/>
        </p:xfrm>
        <a:graphic>
          <a:graphicData uri="http://schemas.openxmlformats.org/drawingml/2006/table">
            <a:tbl>
              <a:tblPr/>
              <a:tblGrid>
                <a:gridCol w="1422360"/>
                <a:gridCol w="1422720"/>
                <a:gridCol w="1422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w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38862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Que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Given protein E, find all 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68720" y="344340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lational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7600" y="5181480"/>
            <a:ext cx="183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rected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way Knowledg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enefi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entralized resource for querying pathway information across data sources and speci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monstrates use of BioPAX and RDF for exchange and integration of pathway data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imitat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oring data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only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as RDF graph structures limits query performanc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mport requires manipulation of namespac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Querying options and methods are based on SPARQL but do not currently support all the features specified in SPARQ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08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problem with pathways…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oPAX and data exchang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thway Knowledge Ba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Querying over multiple data sourc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ta import and query proces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valu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clusion &amp; Next Step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Steps in PK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thway differences between data sourc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does the galactose metabolism differ b/w ecocyc and reactom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thway merg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erge information from the same pathways from different data sourc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athway consistency check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oPAX rules for testing pathway mode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KB Team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Kyle Bruck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illiam Lu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igam Shah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aniel Rubi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uss Altma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osting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ational Center for Biomedical Ontologi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unding Sourc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anford Medical Informatic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ational Library of Medicin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ational Institute of Health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.  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kb.stanford.edu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thwaykb@lists.stanford.edu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ways convey biological phenom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772400" cy="42436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630840" y="620856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undaraaj et. al,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interpret non-standard pathway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6705720" cy="3996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752480" y="2057400"/>
            <a:ext cx="5715000" cy="4124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808800" y="6415200"/>
            <a:ext cx="53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sulin signaling pathways – KEGG &amp; BioCar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blem with pathway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o many sources to investig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&gt;200 databases in the Pathway Resource Lis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athguide.org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thway diagrams are the primary way for consuming inform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n-standar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corporates a handful of genes and protei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fficult to compute ov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thway” representation is not easy to defin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ppropriate levels of abstrac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andard naming systems for molecul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ppropriate numbers of componen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PAX is an emerging standard for pathway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53053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1292400"/>
            <a:ext cx="7848720" cy="53575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602400" y="6400800"/>
            <a:ext cx="230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http://www.biopax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PAX allows for creation of a central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oPAX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andardized representation of Pathway data in OW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ovide method for exchange that promotes interoperability between known data sources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8763120" cy="2065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52280" y="4038480"/>
            <a:ext cx="8077320" cy="3812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71500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We use BioPAX level 2 to integrate Kegg, BioCyc and React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800600" y="4572000"/>
            <a:ext cx="533520" cy="1295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0102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way Knowledge Base (PK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04920" y="5486400"/>
            <a:ext cx="7924680" cy="13240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frastructure to integrate pathway information from multiple sources into a central resourc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oPAX  and Oracle RDF mod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ethods to query pathways in these databas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QL/SPARQ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web interface that allows users and other programs to query and access these pathway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JSP/AJAX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1629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 pathways across data sources and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rcRect l="0" t="0" r="-3270" b="33452"/>
          <a:stretch/>
        </p:blipFill>
        <p:spPr>
          <a:xfrm>
            <a:off x="685800" y="1454040"/>
            <a:ext cx="5791320" cy="5265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476760" y="647712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ttp://pkb.stanford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49:18Z</dcterms:created>
  <dc:creator>Nikesh</dc:creator>
  <dc:description/>
  <dc:language>en-US</dc:language>
  <cp:lastModifiedBy>Nikesh</cp:lastModifiedBy>
  <dcterms:modified xsi:type="dcterms:W3CDTF">2006-11-09T19:43:07Z</dcterms:modified>
  <cp:revision>94</cp:revision>
  <dc:subject/>
  <dc:title>Bmi 212 presentation slides v1</dc:title>
</cp:coreProperties>
</file>